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999E-B20D-4D19-AF80-E9AC2EE8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BD9-CFCA-49DE-AFEF-87CAD0FF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C0D0-64A8-46D4-85BE-D048D1C2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3BBE-579A-4A36-AF1F-96B50350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65F-D9CE-46AC-BCBC-B9F28FBB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6D9-F1A8-4951-B560-EC107CAA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B56-559E-4751-A4A3-84D2997C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A89-BA9A-4F38-B6C1-C64DE263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E80-1984-4BAD-9D48-E7C8A242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D42-F99E-450D-A9DD-92D9BB8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542-DAE2-4E4E-BD64-5D9E6CCE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281D-EB5F-4EBE-9F74-A7814E75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0A37-6BDD-4B89-A14D-1992FB98D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anking &amp; Consumer Sm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&amp; Consumer Sm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228600" y="1773000"/>
            <a:ext cx="8610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resentation is designed to have you take a more detailed look at what influences your spending and the proper utilization of banking servic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you be a more savvy consumer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er Sm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does media influence purchasing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factors can influence a person's spending, however one of the most powerful is media. Billions of dollars are spent annually on the advertisement of goods and services and enticing custom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nt, radio and commercial sales techniqu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is a very profitable indust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appealing in some ads and what is it about the ad that makes you want to spend money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rand name items vs. generic ite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times youth are not interested in generic items because they are not recognized in media. Essentially, name brand items are only more expensive because of their marketing cos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45720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er Sm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does media make wants seem like need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oal of some ads is to make a person think the product is "cool" and to create a sense of purchase-pressur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 comparison shopp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important to realize that we cannot have all of our wants and we sometimes have to compromise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P: Compare prices in different flyers, cli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pons and try bargaining for prices and servi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son shopping is a great budget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ique, and will also provide a consumer wit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ys to accommodate wants with saving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8478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: Banks vs. Credit U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rvices offered at both banks and credit un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unts, loans and money transfer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fety of financial institution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, is safe and available. Money kept in banks and credit unions is insured up to $100,000 by the Federal Deposit Insurance Corporation (FDIC) and the National Credit Union Administration (NCUA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: Banks vs. Credit U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195120" y="-133200"/>
            <a:ext cx="9536040" cy="71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y are checking accounts importan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various payment options that come from having a checking account: check, debit card and money order. Despite checks being used less in today‘s economy, it is important for you to know the proper way to write a check, as there are still circumstances when payment by check is requir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open a checking accou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eps of opening a checking account: going to the bank and talking with a representative, filling out an application, giving proper ID, signing a Signature Verification Card and depositing an opening balance. Most formal financial institutions have youth accou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ayment op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are pros and cons of each payment method: cash, check, debit card, credit card and money orders. Pros and cons include: safety, tracking ability, credit and transaction cost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n the next activity: Practice writing a proper check. See Checking out Checking Accounts Hando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02:21:52Z</dcterms:created>
  <dc:creator>admin</dc:creator>
  <dc:description/>
  <dc:language>en-US</dc:language>
  <cp:lastModifiedBy>Leif Erickson</cp:lastModifiedBy>
  <dcterms:modified xsi:type="dcterms:W3CDTF">2011-08-03T02:51:35Z</dcterms:modified>
  <cp:revision>11</cp:revision>
  <dc:subject/>
  <dc:title>Road to Financial Maturity</dc:title>
</cp:coreProperties>
</file>